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5.jpeg" ContentType="image/jpeg"/>
  <Override PartName="/ppt/media/image8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DC2C-D385-48CB-A8E8-8896E0643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90E7-BA7C-4810-A499-5378F799C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2948-3FD3-4954-90F8-89A8BACA6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BDBC-E623-4A01-88E7-41F779C6C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7ADA-ADD3-4A64-918D-B1238795E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1CFB-1FC6-435E-9D0C-4905DB961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C3F6-FFA5-4DC3-A2E5-85C09A695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CF0-CA9B-4796-8B3C-AB1B3D1C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21F5-8D81-4EF1-AC11-816C492BD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61EC-4812-4195-BFD6-2B33AC304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2FAD-61AF-4050-AD67-ACE26A9B1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EB47-69FC-4F2E-AE98-52ABE3F6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955F-507B-4B2B-A319-108845678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7819-EF5C-4B44-9147-6FFFEA084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460D-59E3-4127-9C66-CA5804786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E9D4-A1C7-415F-9A11-F19EA5987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C01E-A363-4EEC-9DAE-88103B80D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E704-30EC-4AC1-9C52-378BEA85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EF5A-9344-4672-B26D-F6E8A9EB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9FC-FCA2-49B4-86F3-24064C11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05E-C59F-44E4-82D5-437EDCDB1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33F5-7F24-4902-B0EF-F606ECA5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0D41-228D-420B-8AA9-3AF81362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F5DD-B732-454C-949A-98C221548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C2E3-B17A-4932-9441-629FDFE55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19CD-1EB7-4368-9645-56730346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CB74-0B24-43B1-B2CB-DF619C0F5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FD5A-2EC8-4D17-8CBA-41E7252C2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203A-EB47-42D3-AF13-7CCF58F1A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BDF4-E923-43CD-987B-84954B3F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D6D1-DF14-42FC-876A-56333EEF9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7BB0-DF72-469C-B0DA-02CA8220C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672D-824D-4528-A894-22F92FAF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FF58-FB9E-4532-9C47-32AE80BBA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9842-7F39-433F-A8B6-BC4E3E26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7B4B-575B-4D13-A8DE-E32DEDDB9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2D30-2E15-4ECA-ABF1-B3D528E0C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AE41-BEB6-40F1-956A-29E49871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FAA7-0948-43CA-A90B-9F402A8A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352E-9D34-4FB4-B5B6-836D34B6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4037-8007-4C47-9715-C44BA125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2F3F-161B-45BB-AD37-A1460173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A076-F23D-4A2A-8FC4-B35C13E58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ED11-0D07-43B1-A717-B4C1039C6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1F09-62BA-47F3-AB6A-C8BE2CA66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6FB-D4DF-4FD1-85E4-8350DCF0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3BF-52A3-4DFA-BBB3-689EE8B6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BA1F5-5EC3-40A1-A7D8-8EABC8A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49DB4-AFE1-4E39-9003-5F7FBD11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0FE75-0A91-45D7-B742-D9BAC7BD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D43EE-5EFF-44A9-8983-B83EB64B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CECBE-FA47-4FFB-880C-81EA574B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CE1FC-1E8F-4D64-8E43-5F9A9A9D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9B9BA-7B63-458A-9E4D-30B74A0E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9FF33-BD20-488E-8C69-1E5D4D7D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3F02E-1552-449E-B574-37EE3652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DACBA-7448-4D7B-AEE7-03A1EC2C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C51-D039-49B1-9858-044670C8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033CC-5DE4-4E1C-A065-FF9BB24C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C52BF-2D2B-4066-96C2-1DBEEAF9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28CB9-7E76-4EDF-9831-E79AFD3E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99A03-A4F8-4836-9C62-1CA4F944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BA30E-B3F7-42DD-9AB1-6AA87492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79290-6A8F-47D1-BD08-6F73C2A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E80C7-F67F-4032-A4AF-1C6F2DF5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F9086-6238-49BD-9104-E1947E7E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F81CD-691B-47B2-BA8B-D8D95E34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CA464-0571-4D92-8DE7-D7182716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DE1-6CD7-4255-BF00-2C4C277B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CD937-F35C-42DA-A0F1-BD31256C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B989-FDB7-4372-A244-801602EF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6172-F10E-4CA4-B662-8ED42217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CB34-11CD-40BD-8C15-2CC740B8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6F57-E18C-4644-AC0D-8F0560EE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4227-8EED-4751-A6DB-580809A4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3DE8-872D-4694-BB39-D251D3AD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7DDB-9079-47A9-947F-43F79FFB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1EA-3C1D-40CA-94E9-CBEC4A74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9268-428A-457A-AAE1-52834B15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1F13-1701-4299-9366-4F5280BE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702F-D022-4EE6-89CF-074DA455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29D7-7B1E-43DC-A280-28C2393F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C51F-24F3-4A50-9EB5-D32A46E1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B519-4706-4ADA-A879-84A45EF2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E261-A52F-4079-A9AF-A29F0CA7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E119-2117-4F72-B576-1E26E6AD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166E-48AB-47AF-8A7B-1F2CB1FC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C6D4-32B9-4B92-B3CA-FEED4B8D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600-2DB8-46FF-9496-B743C7AC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F5B0-3555-4789-8450-87ABBB1B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886C1-4241-45B3-990B-5193A39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71BD-55F6-4981-9508-BBE976F3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FF05-148F-4E25-9E13-868C5C1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0CC2-B26B-490D-9D95-CB4F91CB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CDCA-0876-4F0A-851C-986B4A29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3895-AF19-4BFE-B98D-AF8BCA9E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087BC-F601-4EB6-8730-76BCC677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1F66-0AFB-4E63-9E6F-97E44736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3171B-402D-459B-A740-7D4A95AA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6C3-AA5C-4692-A76E-418FF650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88C9C-E43B-48C6-9954-EE3B2F5D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F4D01-1C03-4702-8CB4-9439EC75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5D0D-5C23-4268-B6DB-42DF90D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452F-0972-49AD-8096-18E949A0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71174-2CC2-4860-9EEC-AF40905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907D-05E0-4950-9E5D-ACD81859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06040-FFEC-4A90-89E3-FC062162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B032-F351-45A4-A55E-57F73F2C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FDCBB-5ADC-4F6A-9AED-BBC585E4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9F1D4-89DE-4A0E-9184-60385CE5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C6C-E4AC-43B5-9184-F53C90B8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F2602-E015-4602-89F8-8C976292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A6483-1049-4A71-8018-3877BA4E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BC835-C568-481D-8500-ABE1997F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B178E-98EB-4BF6-9473-3252E7CA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C9A7A-70DF-4476-8098-9028D442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04F2-8AC1-4C5A-9CE8-F1DB267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B9088-5FC0-4B9B-8BE1-98F49DA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4F32-4743-4F4B-BBCE-FDA1A541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21A7C-14A7-4AF8-BE6F-B6FD7DEA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A890-ACB4-4069-B406-F638A800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B2C-4B6B-45E3-99AA-A901423A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3A022-5BEE-4FBA-8249-F718C209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2F5B9-B81E-447F-9F47-851C8F87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87310-C433-4BD9-865C-3E2BE608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0D7F-57DD-46E1-AD7F-844D479A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5377D-ADE6-4B3C-BC29-39B54922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76C9A-20B4-4B1F-8F8B-EC1D7FE1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C5056-7538-4981-9FA4-919E5F1E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63BB8-66FF-4A6E-9E4B-6E9C022F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4C025-9FDC-47CB-8E7B-851F995B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90462-C009-4507-98C5-CEBC3A59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C6B-C485-4614-BC6C-DFE44CA6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AC764-B235-4433-B275-84C73156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789AF-44FE-4E59-86E4-58FED957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07927-CB24-44C2-863C-61CFDFC6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BB969-842E-4530-BBC7-173F9EAB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9DAF6-F035-47C2-9E85-CF7B5967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0C2DB-CC31-4658-A95E-1C1737AF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89835-2D95-4B6D-8D61-FBCEC8F0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C2FFE-CF9F-40A6-9729-40C08A94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49AB9-4796-42C8-ABAB-06D40612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7429B-F65F-4442-9BC9-F634462F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175-E565-45EB-9C02-21BD772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CB766-F4E1-473D-9187-3162CD4B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F7024-49E3-4EC7-974D-BC2F6B2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6089D-260C-4EE1-8C41-746A3832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D82EA-749B-401A-BF30-099B9177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3B8D-00B4-4A24-92B0-F9ACAEEA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03BF5-2487-48B5-A566-AA721F6E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DAD6D-31E2-4FAD-A437-ABC23C4D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5A3C2-F3AC-4889-AC48-95B043FC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316DD-9B90-4CF0-B983-9B56EDAA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5EE8C-F1D6-4BAE-9630-C109FACD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71B-1346-48FB-B2E8-00DB0D14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47DE2-4B32-442A-AFF3-1E1D9B0E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7CFEC-3034-4675-8D0E-0A7A0AE8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5F852-B19C-426B-8CFD-7AAFC670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6E4CD-5D1F-4738-AD51-2037BE97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EBBE8-F024-49CE-8DF9-7AF9DED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C1340-8140-4BAF-9301-5900B1CB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5B7AE-4B21-42AF-AF7B-637FFFEC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7D14C-2853-46ED-B558-F5B78D17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DCB42-4475-45E6-B635-222B5997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F2855-D6F5-4A2C-A8C2-DE50A77D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5577-17BC-4AFC-898C-5F3370E6DC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0834-83D4-499A-ACBE-9CAD395357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6221-58CC-4745-A2F8-9F3B4CD10F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3D59-AB98-4855-BE4F-8EBF786C5C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08A4-A6EA-4838-B784-EA3CA08141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B4B2-25E6-4CD1-AD21-E1367FB87C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134F-F220-4681-A7E1-E7D5F7BD6E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3C4E-BD3F-4C52-B38B-50E818D0D8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46EE-1243-46FC-A39D-AB71A01670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B3F7-7B46-4FFE-BBDF-B55C8110C7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9144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DNA AND PROTEIN SYNTHESI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Lucida Sans Unicode"/>
              </a:rPr>
              <a:t>Mr. O’Conn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Lucida Sans Unicode"/>
              </a:rPr>
              <a:t>Biology 201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fic base pairing arrangement (Chargaff’s Ru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A-T : 2 hydrogen bo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-G : 3 hydrogen bo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trogen bases attach to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he sugar portion of the side (NOT the phosphat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ands run in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opposite dir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91" name="Object 5"/>
          <p:cNvGraphicFramePr/>
          <p:nvPr/>
        </p:nvGraphicFramePr>
        <p:xfrm>
          <a:off x="708120" y="457200"/>
          <a:ext cx="2976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457200"/>
                    <a:ext cx="2976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8"/>
          <p:cNvSpPr/>
          <p:nvPr/>
        </p:nvSpPr>
        <p:spPr>
          <a:xfrm>
            <a:off x="0" y="10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94" name="Object 7"/>
          <p:cNvGraphicFramePr/>
          <p:nvPr/>
        </p:nvGraphicFramePr>
        <p:xfrm>
          <a:off x="5334120" y="914400"/>
          <a:ext cx="3066840" cy="46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914400"/>
                    <a:ext cx="30668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codes for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proteins (structural proteins, enzymes, and hormon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for building proteins is carried in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he sequence of nitrogen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teins determin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physical and metabolic traits and regulate growth and develop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DNA%20to%20protein"/>
          <p:cNvPicPr/>
          <p:nvPr/>
        </p:nvPicPr>
        <p:blipFill>
          <a:blip r:embed="rId2"/>
          <a:stretch/>
        </p:blipFill>
        <p:spPr>
          <a:xfrm>
            <a:off x="533520" y="1143000"/>
            <a:ext cx="78483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NA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Process in which DNA is copi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URPOSE OF DNA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ives daughter cells produced by cell division a complete set of genetic information identical to the paren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ERE REPLICATION OCC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EN DURING THE CELL CYCLE REPLICATION OCC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Interphase (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W REPLICATION OCC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Helicase enzym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unzip the parent strand by separating the nitrogen base pai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 DNA polymerase pairs free DNA nucleotides with th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exposed bases on both strands following the base pair ru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trand from the parent molecule serve as 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empl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Hydrogen bonds reform spontaneously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ealing the two strands of each DNA molecule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DNA (DEOXYRIBONUCLEIC ACID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1f28"/>
                </a:solidFill>
                <a:latin typeface="Lucida Sans Unicode"/>
              </a:rPr>
              <a:t>Nucleic acid that composes chromosomes and carries genetic information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SULTS OF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molecules of DN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hat are identic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i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half old (strand from parent) and half new (strand synthesized by DNA polymera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dnacopy"/>
          <p:cNvPicPr/>
          <p:nvPr/>
        </p:nvPicPr>
        <p:blipFill>
          <a:blip r:embed="rId1"/>
          <a:stretch/>
        </p:blipFill>
        <p:spPr>
          <a:xfrm>
            <a:off x="990720" y="1143000"/>
            <a:ext cx="70102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Proteins are important becaus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 Unicode"/>
              </a:rPr>
              <a:t>Enzymes are proteins- control every chemical reaction in cel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 Unicode"/>
              </a:rPr>
              <a:t>Body structure are proteins-Hair, muscle, skin, blood etc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 Unicode"/>
              </a:rPr>
              <a:t>Hormones are proteins-Insulin, adrenaline, growth hormones etc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RNA (RIBONUCLEIC ACID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1f28"/>
                </a:solidFill>
                <a:latin typeface="Lucida Sans Unicode"/>
              </a:rPr>
              <a:t>Nucleic acid involved in the synthesis of protei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NA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sed of nucleotides, but differs from DNA in three wa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ingle strand of nucleotides instead of double strand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Has uracil instead of thym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ntains ribose instead of deoxyribo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5" descr="COMPAREdnarna"/>
          <p:cNvPicPr/>
          <p:nvPr/>
        </p:nvPicPr>
        <p:blipFill>
          <a:blip r:embed="rId1"/>
          <a:stretch/>
        </p:blipFill>
        <p:spPr>
          <a:xfrm>
            <a:off x="838080" y="457200"/>
            <a:ext cx="3157560" cy="6248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T_vs_U"/>
          <p:cNvPicPr/>
          <p:nvPr/>
        </p:nvPicPr>
        <p:blipFill>
          <a:blip r:embed="rId2"/>
          <a:stretch/>
        </p:blipFill>
        <p:spPr>
          <a:xfrm>
            <a:off x="457200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sugars"/>
          <p:cNvPicPr/>
          <p:nvPr/>
        </p:nvPicPr>
        <p:blipFill>
          <a:blip r:embed="rId3"/>
          <a:stretch/>
        </p:blipFill>
        <p:spPr>
          <a:xfrm>
            <a:off x="4800600" y="3581280"/>
            <a:ext cx="3705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NA FUN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ee forms of RNA involved in protein synthe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mRNA (messenger):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pies instructions in DNA and carries these to the rib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 tRNA (transfer):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arries amino acids to the rib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rRNA (ribosomal):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mposes the rib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OTEIN SYNTHE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ells build proteins following instructions coded in genes (DNA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sts of two parts,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ranscription and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ANSCRI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DNA is copied into a complementary strand of mRNA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cannot leave the nucleus. Proteins are made in the cytoplasm.  mRNA serves as a “messenger” and carries the protein building instructions to the ribosomes in the cytopla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CATION OF TRANSCRI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ROMOSOME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A chromosome is an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enormous strand of super coiled DN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 Sections of DNA on the chromosom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hat code for proteins are called ge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Noncoding sections of DNA are called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“junk DNA”  (regulatory or unknown func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W TRANSCRIPTION OCC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RNA polymeras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untwists and unzips a section of DNA (usually a single gene) from a chrom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 RNA polymerase pair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free RNA nucleotides to the exposed bases of one of the DNA strands following base pair ru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Uracil replaces thym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1 strand of DN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erves as a template, the other “hangs ou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Newly synthesized mRN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eparates from template DNA and DNA zips back u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transcriptionA"/>
          <p:cNvPicPr/>
          <p:nvPr/>
        </p:nvPicPr>
        <p:blipFill>
          <a:blip r:embed="rId1"/>
          <a:stretch/>
        </p:blipFill>
        <p:spPr>
          <a:xfrm>
            <a:off x="2057400" y="457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SULT OF TRANSCRI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mRNA strand with instructions for building a protein that leaves the nucleus and goes to the cytopla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ANSCRIPTION EXAM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cribe the following DNA Sequence in m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C   CGG  ATC  CTA  GGA  TC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UG  GCC  UAG  GAU  CCU  AG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OTEI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tructural and functional components of organis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sed of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amino ac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der of nucleotides in DN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determines order of amino acids in a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gen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des for one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17x3"/>
          <p:cNvPicPr/>
          <p:nvPr/>
        </p:nvPicPr>
        <p:blipFill>
          <a:blip r:embed="rId2"/>
          <a:stretch/>
        </p:blipFill>
        <p:spPr>
          <a:xfrm>
            <a:off x="1911240" y="304920"/>
            <a:ext cx="5056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NETIC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“language” that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ranslates the sequence of nitrogen bases in DNA (mRNA) into the amino acids of a prote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don =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hree nucleotides on DNA or m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codon specifi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one amino ac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 codons are redundant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(code for the same amino aci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enetic code i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universal to all organis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codon"/>
          <p:cNvPicPr/>
          <p:nvPr/>
        </p:nvPicPr>
        <p:blipFill>
          <a:blip r:embed="rId2"/>
          <a:stretch/>
        </p:blipFill>
        <p:spPr>
          <a:xfrm>
            <a:off x="2705040" y="304920"/>
            <a:ext cx="3925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chromosomesgenes"/>
          <p:cNvPicPr/>
          <p:nvPr/>
        </p:nvPicPr>
        <p:blipFill>
          <a:blip r:embed="rId2"/>
          <a:stretch/>
        </p:blipFill>
        <p:spPr>
          <a:xfrm>
            <a:off x="1676520" y="896760"/>
            <a:ext cx="541008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7" descr="SCI_Amino_Acid_CIRCLE"/>
          <p:cNvPicPr/>
          <p:nvPr/>
        </p:nvPicPr>
        <p:blipFill>
          <a:blip r:embed="rId1"/>
          <a:stretch/>
        </p:blipFill>
        <p:spPr>
          <a:xfrm>
            <a:off x="2514600" y="0"/>
            <a:ext cx="4038480" cy="4067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838080" y="4190760"/>
            <a:ext cx="78487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NA:     TAC  CTT  GTG  CAT  GGG  AT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RNA   AUG  GAA CAC  GUA  CCC  UA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.A        MET  G.A   HIS   VAL   PRO  STO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MPORTANT COD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UG =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tart translation (M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AA, UAG, UGA=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top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Instructions in mRNA are used to build a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CATION OF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ribosome (in the cytoplasm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OCESS OF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mRN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binds to the rib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 Ribosome searches for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tart codon (AU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tRNA bring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rrect amino acid (methionine) to the rib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tRNA carri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one type of amino ac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nticodon (three nitrogen bases on tRNA)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must complement codon for amino acid to be added to protein ch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ribosom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reads next cod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. tRNA’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ntinue lining up amino acids according to cod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6. peptide bond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link amino acids toge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. ribosome reaches STOP cod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Amino acid chain is rele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SULT OF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A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86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UILDING BLOCKS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mposed of nucle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cleotides contain three par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5-Carbon Sugar (deoxyribo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2.  Phosphate Gro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Nitrogen Bas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(four types, adenine, guanine, thymine and cytosin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http://www.msu.edu/course/isb/202/ebertmay/drivers/nucleotide.jpg"/>
          <p:cNvPicPr/>
          <p:nvPr/>
        </p:nvPicPr>
        <p:blipFill>
          <a:blip r:embed="rId2"/>
          <a:stretch/>
        </p:blipFill>
        <p:spPr>
          <a:xfrm>
            <a:off x="1523880" y="914400"/>
            <a:ext cx="563904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enine and Guanine are purin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(composed of two rings of nitrogen atom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82" name="Object 4"/>
          <p:cNvGraphicFramePr/>
          <p:nvPr/>
        </p:nvGraphicFramePr>
        <p:xfrm>
          <a:off x="1752480" y="2360520"/>
          <a:ext cx="518184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0520"/>
                    <a:ext cx="5181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ymine and Cytosine are pyrimidin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(composed of one ring of nitrogen atom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86" name="Object 4"/>
          <p:cNvGraphicFramePr/>
          <p:nvPr/>
        </p:nvGraphicFramePr>
        <p:xfrm>
          <a:off x="1676520" y="2133720"/>
          <a:ext cx="5229000" cy="32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22900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RUCTURE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sts of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wo strands of nucleotides that form a twisted ladder (double helix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gar and phosphat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alternate along the sides of the ladder (linked by strong covalent bond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irs of nitrogen bas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form the rungs of the ladder (linked by weak hydrogen bond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3:50:49Z</dcterms:created>
  <dc:creator>John AJ O'Connor</dc:creator>
  <dc:description/>
  <dc:language>en-US</dc:language>
  <cp:lastModifiedBy>John AJ O'Connor</cp:lastModifiedBy>
  <dcterms:modified xsi:type="dcterms:W3CDTF">2011-01-04T04:19:47Z</dcterms:modified>
  <cp:revision>5</cp:revision>
  <dc:subject/>
  <dc:title>PowerPoint Presentation</dc:title>
</cp:coreProperties>
</file>